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177-FFD0-4D1C-B9BC-347E71DE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E2E-EF83-43BF-81E6-7E7B0BA9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5E1-339F-4B7D-80FA-695AC364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9AE-5245-490B-BB1C-BF4C1E98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F70-80C2-4703-86E8-CC913E30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4DA-D3DF-40FD-8D1B-59B5D97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029-8425-492B-AF48-B4F3DF01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68D-E56C-40FB-9D1D-66252E4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816-9864-4881-901A-0FF915FE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C17-1CCA-4EFF-BA3F-2CE96E9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678-FA89-4431-B03A-338DE1E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AB4-F973-4ED6-8ED4-3E65D1E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B294-1A2B-492B-97DC-9DB98515B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33:33Z</dcterms:created>
  <dc:creator>abeason</dc:creator>
  <dc:description/>
  <dc:language>en-US</dc:language>
  <cp:lastModifiedBy>abeason</cp:lastModifiedBy>
  <dcterms:modified xsi:type="dcterms:W3CDTF">2009-10-19T14:33:44Z</dcterms:modified>
  <cp:revision>1</cp:revision>
  <dc:subject/>
  <dc:title>Slide 1</dc:title>
</cp:coreProperties>
</file>